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86E-6F0D-4106-B1F4-E9665A20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E495-0391-4186-8DAA-34204DD2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097-2CE8-4282-A1F9-BBBC3712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84F-A509-483D-BF44-EC1F9D0A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BAC-EE40-47B9-965B-5C74CC9D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0F3-6629-4E68-AF46-CB67837B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8989-96FC-41BB-ABB2-6C2B00CC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1A6-E8AD-4590-81CC-658D6AFC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78F-DB9B-4DE9-899F-32743871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5BB-4F6D-4185-9F58-8C8CA65D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815-9EB5-4B1E-BF4B-B263C95A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BC8-50D1-4945-A563-982D8D80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C86B-E326-45BD-9A38-053C738B4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" y="11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20:15:29Z</dcterms:created>
  <dc:creator>Martha Maiden</dc:creator>
  <dc:description/>
  <dc:language>en-US</dc:language>
  <cp:lastModifiedBy>Martha Maiden</cp:lastModifiedBy>
  <dcterms:modified xsi:type="dcterms:W3CDTF">2008-01-07T20:16:26Z</dcterms:modified>
  <cp:revision>1</cp:revision>
  <dc:subject/>
  <dc:title>PowerPoint Presentation</dc:title>
</cp:coreProperties>
</file>